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1F2-9BB5-4C81-BB7D-05688D5D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D63-71D4-4C6B-9FF1-62D2D70D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0DF-472C-405C-BBBF-7D678D8C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D12-879C-45DB-A662-F1D47304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950A-44A3-41CA-B197-2168D334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5102-D3BB-4EB4-A76B-39B9EAF0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F3BA-D9E8-4AFF-B2D1-F4A4E3B0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D0B9-49F7-4EFE-9872-227A41DB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D0E6-4F83-476D-9C65-B95AE58B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C293-4F4D-4893-9615-64150316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84D5-CE1D-48A8-8CA2-9A7BA4D4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4C6-DB52-4527-95D9-A5A9CCD2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C5A4-A0F7-4967-8D4D-63B210FD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FB39-36D9-489F-B8E8-4EF80071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0364-F6D5-42AF-8FE4-8D3A6E86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A100-BFFE-48E7-BD07-23DB2B24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F35B-BEBF-47CB-8A0E-CDC253FB0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A42-606D-4B97-952D-19E62E84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4D2-D714-4AAC-8A19-26B5A25D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C15-803D-470A-9D7E-4B920E71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BDF-0505-4B1A-A90B-333AB208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EE0-B984-4061-94D3-1E168EFB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4FC-1E48-4C01-B996-778C15C7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D22-8A64-4451-BB6B-E6019F67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2560-90F2-4575-B270-4D2EDB2883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E156-C55D-4C8D-9ADE-AAFFAA2DE3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E3UsXoaTong" TargetMode="External"/><Relationship Id="rId3" Type="http://schemas.openxmlformats.org/officeDocument/2006/relationships/hyperlink" Target="http://www.webwire.com/ViewPressRel.asp?aId=93931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haracteristics of Scienc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1447920"/>
            <a:ext cx="5715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spcBef>
                <a:spcPts val="700"/>
              </a:spcBef>
              <a:buClr>
                <a:srgbClr val="80004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ick up the handouts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r">
              <a:spcBef>
                <a:spcPts val="700"/>
              </a:spcBef>
              <a:buClr>
                <a:srgbClr val="80004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or a sticker, write your answer to these questions in your notebook by the time the bell rings: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hat makes something scientific?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hat sets science apart from other fields?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53704" t="958750" r="354630" b="479375"/>
          <a:stretch/>
        </p:blipFill>
        <p:spPr>
          <a:xfrm>
            <a:off x="0" y="5062680"/>
            <a:ext cx="3505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124080" y="380880"/>
            <a:ext cx="55627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b 19-Mar 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 21-Ap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 22-Jan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n 22-Jul 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 23-Sep 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 22-Dec 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21-Jun 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ul 23-Aug 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r 20-May 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 19-Feb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t 23-Nov 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 23-Oct 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Us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71629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what is astrolog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TABL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im makes predictions based upon the proposed mechanis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: Any argument offered as evidence to support a claim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tually accu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 the best of our knowled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alid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s conclusion following inevitably from its premi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nvalid: "All dogs have fleas and Xavier has fleas; therefore Xavier is a dog."  Valid: "All dogs have fleas and Xavier is a dog; therefore Xavier has fleas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rden of pro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ts on the claim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traordinary claims demand extraordinary ev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"It rained for ten minutes on Tuesday" vs.  "Human beings are actually meant to live underwater.”  Could I accept your personal report for bot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352320" y="228600"/>
            <a:ext cx="57913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BLE: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idence can be obser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one of the five human senses, or using a demonstrated technological extension of a sense, such as a microscope or thermometer.  All available evidence is conside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BLE: The claim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s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it must be possible for those controlled experiments to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btaining more evidence from subsequent trials and tests.  If you cannot think of a way to experimentally obtain evidence for or against a claim, it may not meet replic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133360" y="152280"/>
            <a:ext cx="7010280" cy="64771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:  Natural pertains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or material wor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imited to nature only.  If either the mechanism or the phenomenon is supernatural, this condition is not m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:  It must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sible to conceive of evidence that would prove the claim fal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is includes no "multiple outs," which are claims where a falsification result is bound to be the fault of an observer, making it impossible for the claim to be disprov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Us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5486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strology science, pseudoscience, or non-sci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In Sum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7760" y="1980720"/>
            <a:ext cx="6095880" cy="48769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’s the difference between science, non-science and pseudosci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does it matter to be able to tell science apar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bout things like this?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youtube.com/watch?v=E3UsXoaT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  <a:hlinkClick r:id="rId3"/>
              </a:rPr>
              <a:t>http://www.webwire.com/ViewPressRel.asp?aId=9393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usekeeping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8120" y="1981080"/>
            <a:ext cx="54100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e drill/Lock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t automobile registration forms, handbook sign-off sheets, or ConnectEd shee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-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ractic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9000" y="1676520"/>
            <a:ext cx="5486400" cy="4572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able groups, analyze a claim using PLORNT.  Fill out the workshe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descriptive!  Give evide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everybody’s done, a representative from each group will report their claim, their decision, and their justif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sh early?  Analyze extra claims for stickers!  (Remember, stickers = extra cred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mework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8120" y="1981080"/>
            <a:ext cx="54100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llabus signed, student info sheet filled out, lab safety contract signed &amp; circled.  Due Monday for A, Tuesday for 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were not here for the first day, talk to me after class or during downtim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 do you think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5486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akes something scientifi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ets science apart from other field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65040" y="614376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the tension between creativity and skepticism that has produced the stunning and unexpected findings of science.” -Carl S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065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710160"/>
            <a:ext cx="3124080" cy="229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172200" y="4181400"/>
            <a:ext cx="29718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w can you tell…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6386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mething is scientif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LOR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c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erv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li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94320" y="3276720"/>
            <a:ext cx="2749680" cy="358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24080" cy="209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3733920"/>
            <a:ext cx="3083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w can you tell…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cience: Satisfies all 6 PLOR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seudoscience: Does not satisfy all 6 PLORNT, bu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laim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to be sc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science: Does not satisfy all 6 PLORNT, do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claim to be sc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448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 slides, you don’t have to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because it’s all online.  But I underline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nt you to write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ing PLORNT: Analyzing astrology - do birthdates reliably correspond with personality characteristic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a science, pseudoscience, or non-sci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029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Popcorn read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others are reading, underline things you think will help you determine whether astrology is a science or no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On your piece of paper, write your birthdate (month and day), and the number for your personality trait clus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efore we reveal the answer…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(fraction) tha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you’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hoose the “right” number just by cha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any students in this class would probably choose the “right” number just by cha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3232080" cy="426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00200" y="4264200"/>
            <a:ext cx="183996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 your slip to your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e whether your partner’s number matches his/her birthda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swers ar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7:19:27Z</dcterms:created>
  <dc:creator>Rebecca Stang</dc:creator>
  <dc:description/>
  <dc:language>en-US</dc:language>
  <cp:lastModifiedBy>Rebecca Stang</cp:lastModifiedBy>
  <dcterms:modified xsi:type="dcterms:W3CDTF">2009-08-26T23:26:42Z</dcterms:modified>
  <cp:revision>32</cp:revision>
  <dc:subject/>
  <dc:title>9/4  Characteristics of Science</dc:title>
</cp:coreProperties>
</file>